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3.wmf" ContentType="image/x-wmf"/>
  <Override PartName="/ppt/media/image9.png" ContentType="image/png"/>
  <Override PartName="/ppt/media/image8.png" ContentType="image/png"/>
  <Override PartName="/ppt/media/image14.jpeg" ContentType="image/jpeg"/>
  <Override PartName="/ppt/media/image16.wmf" ContentType="image/x-wmf"/>
  <Override PartName="/ppt/media/image19.jpeg" ContentType="image/jpeg"/>
  <Override PartName="/ppt/media/image18.png" ContentType="image/png"/>
  <Override PartName="/ppt/media/image17.png" ContentType="image/png"/>
  <Override PartName="/ppt/media/image15.png" ContentType="image/png"/>
  <Override PartName="/ppt/media/image5.jpeg" ContentType="image/jpeg"/>
  <Override PartName="/ppt/media/image1.png" ContentType="image/png"/>
  <Override PartName="/ppt/media/image2.png" ContentType="image/png"/>
  <Override PartName="/ppt/media/image4.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move the slide</a:t>
            </a:r>
            <a:endParaRPr b="1" lang="en-US" sz="5400" spc="-1" strike="noStrike">
              <a:solidFill>
                <a:srgbClr val="ffffff"/>
              </a:solidFill>
              <a:latin typeface="Calibri"/>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5053-F19C-4ADA-A9A9-E24E8374CEAB}"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website Environmental Leader recently highlighted a survey by Tiller LLC with really interesting findings: about 85 percent of those polled said they were at least “somewhat likely” to reduce household energy consumption next year, while 84 percent said they expected to recycle 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is the company who can help consumers achieve these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is no longer a just an adjective, or a color, it’s a verb. And Green Home Makeovers is the company that will help customers “green” their homes, and in turn, their lives. </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ACD0-09DC-4FF8-8889-CC29E36FE20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nvironmentalism, in particular, in regards to health and energy-efficiency is a hot top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uch information is circulated on the topic in the news...it’s in blogs, on political agend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panies doing energy audits – they come to your home and analyze where and how you are losing or wasting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ther companies are selling green products such as chemical-free cleaners, foods free of genetically-modified ingredients, formaldehyde-free furniture, the list goes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consumers to turn their good intentions into action, what they need is a comprehensive service, someone who can “green” their homes for them.  This is what Green Home Makeovers can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5A35-1AD8-4D48-8CEE-447D9452CF20}"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arriers that prevent consumers who wish to shift their lifestyle towards “green” objective are prevented from doing so for a couple of reasons.  First, there is a vast amount of information thrust at them, which can be daunting.  Also, a change in lifestyle involves time, and many consumers do not have any to spare.  Finally, while there is much information at their disposal, and companies offering advice, there is no set list of actionable items, no real starting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Home Makeovers will aid you in making the switch to a green home and lifestyle by assessing your needs and wants, and doing it for you.</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6776-2CB2-4E63-BDDC-65035E9A266D}"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pecifically, Green Home Makeovers’ services comprise of an audit based in the area specified by the customer.  It can be health, energy, environment, or any combination of these.  Next, the company will provide customers with information to educate them and to justify its recommendations.  Being an expert of government programs and incentives for “greening” can be a part of this consultation process.  Finally, Green Home Makeovers provides solutions by “greening” their house, and providing them with “green” products and systems for everyday use.</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9DA8-2787-4302-9F7B-304C02858DED}"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Home Makeovers can appeal to consumers with health concerns – these may be specific, such as consumers with respiratory problems, or more general, such as aging consumers or households with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Home Makeovers has an inventory of “green” products, such as those featured on greenhome.com, that can replace conventional products that are potentially harmful to your health.  We will come in, analyze your product needs, and provide “green” solutions that optimize your health.  Examples of this include replacing chemical cleaners with “green” enzyme cleaners, and replacing parrafin candles with beeswax c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can be achieved through relationships or partnerships with “green” product companies, natural food store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ideo shows Axil Comras, CEO of greenhome.com, an online store where consumers can purchase green products.  This company is simply a retailer, but this video depicts an interview with Comras showing his products versus conventional products </a:t>
            </a:r>
            <a:r>
              <a:rPr b="0" lang="en-CA" sz="1200" spc="-1" strike="noStrike">
                <a:solidFill>
                  <a:srgbClr val="000000"/>
                </a:solidFill>
                <a:latin typeface="Calibri"/>
              </a:rPr>
              <a:t>http://www.youtube.com/watch?v=GxgIf-XAUhc&amp;feature=related .  </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252B-D026-47F8-A6E6-00BA5FAC90E6}"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can appeal to consumers interested in cost-savings, which is arguably, everyone.  Energy-efficient results in cost-savings, however, you have to spend money to save money in the long-term.  Green Life Makeovers can offset the money consumers must spend in order to save money by spreading the cost over many.  Makeovers can be either simple of high-level, depending on the customer’s desires, and fees will be levied accordingly.  Examples of actions that can be implemented for a simple energy makeover would be installing weather stripping on outside doors, replacing fireplace dampers, replacing incandescent light bulbs with LEDs or compact fluorescents, or installing timers on lights and heating/cooling systems.  On the other end of the spectrum, a higher-level energy makeover can be carried out which may include installing solar panels, or replacing insulation. </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35F8-0801-4D52-91A5-21ADC8F97A0C}"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will also appeal to consumers desiring to make a lifestyle shift towards environmentalism.  The company can offer solutions tailored to customer needs which may include tangible solutions such as setting up a recycling system or a compost in the customer’s home.  These solutions can also be connecting consumers with groups involved in carpooling, community gardening, etc.   </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CE5A-BF78-4CA5-9BAF-3BA4014604E9}"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can use popular networking tools such as Facebook and Twitter for promotion.  This will serve the purpose of marketing and creating awareness, as well as creating a sense of community for its customers and their surrounding “green”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n example of how this might work is to use Twitter to create a buzz – ie.  In what city/neighborhood are we “greening”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nother example may be to run a contest within these networks whereby people can nominate a friend or family member ‘most in need’ of a green life makeover...the results could shared live and/or posted for potential customers to view.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F4AA-A7F8-465E-AAC7-6AED5694D3F0}"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is an enabler for consumers with a desire to shift towards a “green” lifestyle.  It is not only an information resource, but a connection to “green” communities and initiatives, and a starting point for becoming “green”.</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F0A4-0F29-441F-8231-2497B118B7A1}"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47B83-E139-40FC-BD63-60096A8D3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7BE50-6791-4CF9-8B41-D480191C1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60D8F-57B6-46CE-8B97-97AD9EC2C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FA219-5D70-4E68-8D5F-A5C51804B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F3352-FE07-44BE-8FCA-A9A067BCF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0"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044AF-D708-4D34-9F7E-FB4E47D5E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2"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6309B-8224-4F0C-804E-5B2254BAA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77FDD-51EE-4EAF-BB20-400A97D6C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AC4A2-3E86-420C-9D0C-7480423B1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A2EF9-7600-4F4C-942C-940FBA80B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A8966-52CC-462A-99B2-DFBB7AA5A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46B50-A620-48D7-A332-79181A03D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5"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6BA1B-0915-4A7C-B1DD-5341604AA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9"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46F67-35FE-4F13-A5F5-A212F9BAC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1"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2"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29CB0-AFD4-4834-AFEF-35D1495EB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7"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0C73A-6410-41BA-B4DA-DC41046C9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9"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0"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1"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2"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3"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4"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7C77E-A737-4EDD-9548-BDE8CD14A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0AD7C4-E838-4F8F-997C-27ED024F3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2"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666DA1-FB8E-4357-B4CA-5A98BC01D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4"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B9790F-BF75-4858-B97D-7C4A3840B6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56B4F2-34EB-4072-B4D6-1AAB80B60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0C99E-94D7-48D6-AB55-66D20A0B0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6E531-AB0A-4350-B847-4B41D2F8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4B4F78-2805-4EEF-91BB-4347A7971F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AA110-9A15-4D51-A482-114236563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7"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E19A0-40A9-4200-B34F-09BE44F78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1"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2ADA9-47D7-4475-ACC6-7529D17DB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3"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4"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3F9F25-85BE-4381-BC9F-4178B3B7D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9"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6D25BA-E6D1-4DCA-AE26-27CBC00F29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21"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2"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3"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4"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5"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6"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071C82-8A33-40F8-B66C-4163A30CAF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80F360-D36C-4251-B5D7-E1E69D91F9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6"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66E79-854A-457D-822C-EFC8D68588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8"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B0A27D-2634-4071-A313-3E94A3045E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2C65B-A072-4EA3-854F-590B5089E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11DA3-C48E-42C0-B097-23D9B72B3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B46D7-5B26-4388-BF56-B0B7C8872D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D7A28B-8CD1-4B36-B3D1-B5C82DC2A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29906-422C-4E9D-99A8-712939EC9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1"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F4414-A902-46B7-BD79-653C66CE6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5"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A2CEF-7ED6-4711-8A09-C2DE8CA6C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7"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8"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367AB5-872F-40EF-A9F2-A165708CB4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3"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8222C6-8C85-4F0C-8939-A79DEFAEF9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5"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6"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7"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8"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9"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0"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B7F83F-EA12-4362-A79B-8E3104DB3E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EBA4B-C3F1-47FF-94AB-ACB924A3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B146E-7FB7-4D10-9E61-71C56E755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EA80-2B26-41CF-BB0F-D8708F617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A9E03-143C-4351-8193-F648170AD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BA5BB-D5CD-4D77-941A-106AD3FD9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0" name="Picture 7" descr="Fresh Master.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 name="PlaceHolder 3"/>
          <p:cNvSpPr>
            <a:spLocks noGrp="1"/>
          </p:cNvSpPr>
          <p:nvPr>
            <p:ph type="dt" idx="1"/>
          </p:nvPr>
        </p:nvSpPr>
        <p:spPr>
          <a:xfrm>
            <a:off x="952560" y="6552720"/>
            <a:ext cx="1828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4F03-6EDB-48B4-A3CA-E59EB6D21018}"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42" name="Picture 8" descr="Fresh title.png"/>
          <p:cNvPicPr/>
          <p:nvPr/>
        </p:nvPicPr>
        <p:blipFill>
          <a:blip r:embed="rId2"/>
          <a:srcRect l="0" t="0" r="0" b="39778"/>
          <a:stretch/>
        </p:blipFill>
        <p:spPr>
          <a:xfrm>
            <a:off x="0" y="1566720"/>
            <a:ext cx="9144000" cy="2243160"/>
          </a:xfrm>
          <a:prstGeom prst="rect">
            <a:avLst/>
          </a:prstGeom>
          <a:ln w="0">
            <a:noFill/>
          </a:ln>
        </p:spPr>
      </p:pic>
      <p:pic>
        <p:nvPicPr>
          <p:cNvPr id="43" name="Picture 9" descr="Fresh title.png"/>
          <p:cNvPicPr/>
          <p:nvPr/>
        </p:nvPicPr>
        <p:blipFill>
          <a:blip r:embed="rId3"/>
          <a:srcRect l="0" t="33639" r="0" b="59391"/>
          <a:stretch/>
        </p:blipFill>
        <p:spPr>
          <a:xfrm>
            <a:off x="0" y="6597720"/>
            <a:ext cx="9144000" cy="260280"/>
          </a:xfrm>
          <a:prstGeom prst="rect">
            <a:avLst/>
          </a:prstGeom>
          <a:ln w="0">
            <a:noFill/>
          </a:ln>
        </p:spPr>
      </p:pic>
      <p:sp>
        <p:nvSpPr>
          <p:cNvPr id="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45"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46" name="PlaceHolder 3"/>
          <p:cNvSpPr>
            <a:spLocks noGrp="1"/>
          </p:cNvSpPr>
          <p:nvPr>
            <p:ph type="dt" idx="4"/>
          </p:nvPr>
        </p:nvSpPr>
        <p:spPr>
          <a:xfrm>
            <a:off x="6324480" y="6288120"/>
            <a:ext cx="1981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685440" y="6288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8381520" y="62881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3C89-710E-4C6B-9505-64CC4B7B80B3}"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85" name="Picture 8" descr="Fresh section.png"/>
          <p:cNvPicPr/>
          <p:nvPr/>
        </p:nvPicPr>
        <p:blipFill>
          <a:blip r:embed="rId2"/>
          <a:stretch/>
        </p:blipFill>
        <p:spPr>
          <a:xfrm>
            <a:off x="0" y="3767040"/>
            <a:ext cx="9144000" cy="3090960"/>
          </a:xfrm>
          <a:prstGeom prst="rect">
            <a:avLst/>
          </a:prstGeom>
          <a:ln w="0">
            <a:noFill/>
          </a:ln>
        </p:spPr>
      </p:pic>
      <p:sp>
        <p:nvSpPr>
          <p:cNvPr id="8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87"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88" name="PlaceHolder 3"/>
          <p:cNvSpPr>
            <a:spLocks noGrp="1"/>
          </p:cNvSpPr>
          <p:nvPr>
            <p:ph type="dt" idx="7"/>
          </p:nvPr>
        </p:nvSpPr>
        <p:spPr>
          <a:xfrm>
            <a:off x="672840" y="6553080"/>
            <a:ext cx="19810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3620880" y="6553080"/>
            <a:ext cx="28954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7759440" y="6553080"/>
            <a:ext cx="685800" cy="231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67A7-C4A0-4274-95D0-1EEFC4BB99B8}"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127" name="Picture 7" descr="Fresh Master.png"/>
          <p:cNvPicPr/>
          <p:nvPr/>
        </p:nvPicPr>
        <p:blipFill>
          <a:blip r:embed="rId2"/>
          <a:stretch/>
        </p:blipFill>
        <p:spPr>
          <a:xfrm>
            <a:off x="0" y="0"/>
            <a:ext cx="9144000" cy="6858000"/>
          </a:xfrm>
          <a:prstGeom prst="rect">
            <a:avLst/>
          </a:prstGeom>
          <a:ln w="0">
            <a:noFill/>
          </a:ln>
        </p:spPr>
      </p:pic>
      <p:sp>
        <p:nvSpPr>
          <p:cNvPr id="128" name="Rectangle 7"/>
          <p:cNvSpPr/>
          <p:nvPr/>
        </p:nvSpPr>
        <p:spPr>
          <a:xfrm>
            <a:off x="46753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8"/>
          <p:cNvSpPr/>
          <p:nvPr/>
        </p:nvSpPr>
        <p:spPr>
          <a:xfrm>
            <a:off x="9907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131"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132" name="PlaceHolder 3"/>
          <p:cNvSpPr>
            <a:spLocks noGrp="1"/>
          </p:cNvSpPr>
          <p:nvPr>
            <p:ph type="dt" idx="10"/>
          </p:nvPr>
        </p:nvSpPr>
        <p:spPr>
          <a:xfrm>
            <a:off x="952560" y="6552720"/>
            <a:ext cx="1828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11"/>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12"/>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E590-701E-4DDF-84F8-9DADE0C356F1}"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566640" y="304920"/>
            <a:ext cx="7785360" cy="1914480"/>
          </a:xfrm>
          <a:prstGeom prst="rect">
            <a:avLst/>
          </a:prstGeom>
          <a:ln w="0">
            <a:noFill/>
          </a:ln>
        </p:spPr>
      </p:pic>
      <p:pic>
        <p:nvPicPr>
          <p:cNvPr id="179" name="Picture 4" descr="C:\Users\Queen Butler\Pictures\green home.jpg"/>
          <p:cNvPicPr/>
          <p:nvPr/>
        </p:nvPicPr>
        <p:blipFill>
          <a:blip r:embed="rId2"/>
          <a:stretch/>
        </p:blipFill>
        <p:spPr>
          <a:xfrm>
            <a:off x="1033560" y="3048120"/>
            <a:ext cx="7038720" cy="310356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633240" y="-6480"/>
            <a:ext cx="7815600" cy="1474920"/>
          </a:xfrm>
          <a:prstGeom prst="rect">
            <a:avLst/>
          </a:prstGeom>
          <a:ln w="0">
            <a:noFill/>
          </a:ln>
        </p:spPr>
      </p:pic>
      <p:sp>
        <p:nvSpPr>
          <p:cNvPr id="181"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Lots of “buzz” surrounding environmentalism</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mpanies doing ‘energy audits’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mpanies selling “green” products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No one is providing a comprehensive lifestyle-shift solution to consumers</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
        <p:nvSpPr>
          <p:cNvPr id="182"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3C14-B846-4F35-9F23-892714FE64AC}"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Title 1" descr=""/>
          <p:cNvPicPr/>
          <p:nvPr/>
        </p:nvPicPr>
        <p:blipFill>
          <a:blip r:embed="rId1"/>
          <a:stretch/>
        </p:blipFill>
        <p:spPr>
          <a:xfrm>
            <a:off x="665280" y="182520"/>
            <a:ext cx="7813440" cy="1474920"/>
          </a:xfrm>
          <a:prstGeom prst="rect">
            <a:avLst/>
          </a:prstGeom>
          <a:ln w="0">
            <a:noFill/>
          </a:ln>
        </p:spPr>
      </p:pic>
      <p:sp>
        <p:nvSpPr>
          <p:cNvPr id="184" name=""/>
          <p:cNvSpPr txBox="1"/>
          <p:nvPr/>
        </p:nvSpPr>
        <p:spPr>
          <a:xfrm>
            <a:off x="952560" y="2057400"/>
            <a:ext cx="7238880" cy="3733920"/>
          </a:xfrm>
          <a:prstGeom prst="rect">
            <a:avLst/>
          </a:prstGeom>
          <a:noFill/>
          <a:ln w="0">
            <a:noFill/>
          </a:ln>
        </p:spPr>
        <p:txBody>
          <a:bodyPr anchor="t">
            <a:normAutofit/>
          </a:bodyPr>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Barriers:</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	</a:t>
            </a:r>
            <a:r>
              <a:rPr b="0" lang="en-CA" sz="2400" spc="-1" strike="noStrike">
                <a:solidFill>
                  <a:srgbClr val="ffffff"/>
                </a:solidFill>
                <a:latin typeface="Bookman Old Style"/>
              </a:rPr>
              <a:t>	</a:t>
            </a:r>
            <a:r>
              <a:rPr b="0" lang="en-CA" sz="2400" spc="-1" strike="noStrike">
                <a:solidFill>
                  <a:srgbClr val="ffffff"/>
                </a:solidFill>
                <a:latin typeface="Bookman Old Style"/>
              </a:rPr>
              <a:t>Information overload</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	</a:t>
            </a:r>
            <a:r>
              <a:rPr b="0" lang="en-CA" sz="2400" spc="-1" strike="noStrike">
                <a:solidFill>
                  <a:srgbClr val="ffffff"/>
                </a:solidFill>
                <a:latin typeface="Bookman Old Style"/>
              </a:rPr>
              <a:t>	</a:t>
            </a:r>
            <a:r>
              <a:rPr b="0" lang="en-CA" sz="2400" spc="-1" strike="noStrike">
                <a:solidFill>
                  <a:srgbClr val="ffffff"/>
                </a:solidFill>
                <a:latin typeface="Bookman Old Style"/>
              </a:rPr>
              <a:t>Busy lifestyle</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	</a:t>
            </a:r>
            <a:r>
              <a:rPr b="0" lang="en-CA" sz="2400" spc="-1" strike="noStrike">
                <a:solidFill>
                  <a:srgbClr val="ffffff"/>
                </a:solidFill>
                <a:latin typeface="Bookman Old Style"/>
              </a:rPr>
              <a:t>	</a:t>
            </a:r>
            <a:r>
              <a:rPr b="0" lang="en-CA" sz="2400" spc="-1" strike="noStrike">
                <a:solidFill>
                  <a:srgbClr val="ffffff"/>
                </a:solidFill>
                <a:latin typeface="Bookman Old Style"/>
              </a:rPr>
              <a:t>No known starting point </a:t>
            </a:r>
            <a:endParaRPr b="0" lang="en-US" sz="24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Solution:</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	</a:t>
            </a:r>
            <a:r>
              <a:rPr b="0" lang="en-CA" sz="2400" spc="-1" strike="noStrike">
                <a:solidFill>
                  <a:srgbClr val="ffffff"/>
                </a:solidFill>
                <a:latin typeface="Bookman Old Style"/>
              </a:rPr>
              <a:t>	</a:t>
            </a:r>
            <a:r>
              <a:rPr b="0" lang="en-CA" sz="2400" spc="-1" strike="noStrike">
                <a:solidFill>
                  <a:srgbClr val="ffffff"/>
                </a:solidFill>
                <a:latin typeface="Bookman Old Style"/>
              </a:rPr>
              <a:t>Let us come “green” your home and your </a:t>
            </a:r>
            <a:r>
              <a:rPr b="0" lang="en-CA" sz="2400" spc="-1" strike="noStrike">
                <a:solidFill>
                  <a:srgbClr val="ffffff"/>
                </a:solidFill>
                <a:latin typeface="Bookman Old Style"/>
              </a:rPr>
              <a:t>	</a:t>
            </a:r>
            <a:r>
              <a:rPr b="0" lang="en-CA" sz="2400" spc="-1" strike="noStrike">
                <a:solidFill>
                  <a:srgbClr val="ffffff"/>
                </a:solidFill>
                <a:latin typeface="Bookman Old Style"/>
              </a:rPr>
              <a:t>life</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5"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B573-D502-4440-809C-B7100F15526C}"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665280" y="182520"/>
            <a:ext cx="7813440" cy="1474920"/>
          </a:xfrm>
          <a:prstGeom prst="rect">
            <a:avLst/>
          </a:prstGeom>
          <a:ln w="0">
            <a:noFill/>
          </a:ln>
        </p:spPr>
      </p:pic>
      <p:sp>
        <p:nvSpPr>
          <p:cNvPr id="187" name=""/>
          <p:cNvSpPr txBox="1"/>
          <p:nvPr/>
        </p:nvSpPr>
        <p:spPr>
          <a:xfrm>
            <a:off x="952560" y="2057400"/>
            <a:ext cx="7238880" cy="3733920"/>
          </a:xfrm>
          <a:prstGeom prst="rect">
            <a:avLst/>
          </a:prstGeom>
          <a:noFill/>
          <a:ln w="0">
            <a:noFill/>
          </a:ln>
        </p:spPr>
        <p:txBody>
          <a:bodyPr anchor="t">
            <a:normAutofit/>
          </a:bodyPr>
          <a:p>
            <a:pPr marL="343080" indent="-34308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Green Audit </a:t>
            </a:r>
            <a:endParaRPr b="0" lang="en-US" sz="2200" spc="-1" strike="noStrike">
              <a:solidFill>
                <a:srgbClr val="ffffff"/>
              </a:solidFill>
              <a:latin typeface="Bookman Old Style"/>
            </a:endParaRPr>
          </a:p>
          <a:p>
            <a:pPr lvl="1" marL="743040" indent="-28584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 </a:t>
            </a:r>
            <a:r>
              <a:rPr b="0" lang="en-CA" sz="2200" spc="-1" strike="noStrike">
                <a:solidFill>
                  <a:srgbClr val="ffffff"/>
                </a:solidFill>
                <a:latin typeface="Bookman Old Style"/>
              </a:rPr>
              <a:t>Focus can be on health, energy, environment</a:t>
            </a:r>
            <a:endParaRPr b="0" lang="en-US" sz="2200" spc="-1" strike="noStrike">
              <a:solidFill>
                <a:srgbClr val="ffffff"/>
              </a:solidFill>
              <a:latin typeface="Bookman Old Style"/>
            </a:endParaRPr>
          </a:p>
          <a:p>
            <a:pPr marL="343080" indent="-34308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Provides information</a:t>
            </a:r>
            <a:endParaRPr b="0" lang="en-US" sz="2200" spc="-1" strike="noStrike">
              <a:solidFill>
                <a:srgbClr val="ffffff"/>
              </a:solidFill>
              <a:latin typeface="Bookman Old Style"/>
            </a:endParaRPr>
          </a:p>
          <a:p>
            <a:pPr lvl="1" marL="743040" indent="-28584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Consultation</a:t>
            </a:r>
            <a:endParaRPr b="0" lang="en-US" sz="2200" spc="-1" strike="noStrike">
              <a:solidFill>
                <a:srgbClr val="ffffff"/>
              </a:solidFill>
              <a:latin typeface="Bookman Old Style"/>
            </a:endParaRPr>
          </a:p>
          <a:p>
            <a:pPr lvl="1" marL="743040" indent="-28584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Government incentives (according to customer’s area of residence)</a:t>
            </a:r>
            <a:endParaRPr b="0" lang="en-US" sz="2200" spc="-1" strike="noStrike">
              <a:solidFill>
                <a:srgbClr val="ffffff"/>
              </a:solidFill>
              <a:latin typeface="Bookman Old Style"/>
            </a:endParaRPr>
          </a:p>
          <a:p>
            <a:pPr marL="343080" indent="-34308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Provides SOLUTIONS</a:t>
            </a:r>
            <a:endParaRPr b="0" lang="en-US" sz="2200" spc="-1" strike="noStrike">
              <a:solidFill>
                <a:srgbClr val="ffffff"/>
              </a:solidFill>
              <a:latin typeface="Bookman Old Style"/>
            </a:endParaRPr>
          </a:p>
          <a:p>
            <a:pPr lvl="1" marL="743040" indent="-28584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Customizable</a:t>
            </a:r>
            <a:endParaRPr b="0" lang="en-US" sz="2200" spc="-1" strike="noStrike">
              <a:solidFill>
                <a:srgbClr val="ffffff"/>
              </a:solidFill>
              <a:latin typeface="Bookman Old Style"/>
            </a:endParaRPr>
          </a:p>
          <a:p>
            <a:pPr marL="343080" indent="-34308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man Old Style"/>
            </a:endParaRPr>
          </a:p>
        </p:txBody>
      </p:sp>
      <p:sp>
        <p:nvSpPr>
          <p:cNvPr id="188"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588F-94AE-4F26-AB74-8F5D09146084}"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781200" y="-19080"/>
            <a:ext cx="7808760" cy="1701720"/>
          </a:xfrm>
          <a:prstGeom prst="rect">
            <a:avLst/>
          </a:prstGeom>
          <a:ln w="0">
            <a:noFill/>
          </a:ln>
        </p:spPr>
      </p:pic>
      <p:sp>
        <p:nvSpPr>
          <p:cNvPr id="190"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nsumers with specific health concerns (ie. Respiratory problems)</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nsumers with health-sensitivity (ie. w/ children; seniors)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pic>
        <p:nvPicPr>
          <p:cNvPr id="191" name="Picture 2" descr="C:\Users\Queen Butler\AppData\Local\Microsoft\Windows\Temporary Internet Files\Content.IE5\9T5RNME7\MCj04395990000[1].png"/>
          <p:cNvPicPr/>
          <p:nvPr/>
        </p:nvPicPr>
        <p:blipFill>
          <a:blip r:embed="rId2"/>
          <a:stretch/>
        </p:blipFill>
        <p:spPr>
          <a:xfrm>
            <a:off x="285840" y="3857760"/>
            <a:ext cx="2263680" cy="2786040"/>
          </a:xfrm>
          <a:prstGeom prst="rect">
            <a:avLst/>
          </a:prstGeom>
          <a:ln w="0">
            <a:noFill/>
          </a:ln>
        </p:spPr>
      </p:pic>
      <p:sp>
        <p:nvSpPr>
          <p:cNvPr id="192" name="Slide Number Placeholder 4"/>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AF81-BD7A-4C1E-A1B1-F11D13F0F3A4}"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graphicFrame>
        <p:nvGraphicFramePr>
          <p:cNvPr id="193" name="ShockwaveFlash1AgVideo"/>
          <p:cNvGraphicFramePr/>
          <p:nvPr/>
        </p:nvGraphicFramePr>
        <p:xfrm>
          <a:off x="3780000" y="3933720"/>
          <a:ext cx="4063680" cy="2398680"/>
        </p:xfrm>
        <a:graphic>
          <a:graphicData uri="http://schemas.openxmlformats.org/presentationml/2006/ole">
            <p:oleObj r:id="rId3" spid="">
              <p:embed/>
              <p:pic>
                <p:nvPicPr>
                  <p:cNvPr id="194" name="ShockwaveFlash1AgVideo" descr=""/>
                  <p:cNvPicPr/>
                  <p:nvPr/>
                </p:nvPicPr>
                <p:blipFill>
                  <a:blip r:embed="rId4"/>
                  <a:stretch/>
                </p:blipFill>
                <p:spPr>
                  <a:xfrm>
                    <a:off x="3780000" y="3933720"/>
                    <a:ext cx="4063680" cy="2398680"/>
                  </a:xfrm>
                  <a:prstGeom prst="rect">
                    <a:avLst/>
                  </a:prstGeom>
                  <a:ln w="0">
                    <a:noFill/>
                  </a:ln>
                </p:spPr>
              </p:pic>
            </p:oleObj>
          </a:graphicData>
        </a:graphic>
      </p:graphicFrame>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65280" y="-42840"/>
            <a:ext cx="7813440" cy="1700280"/>
          </a:xfrm>
          <a:prstGeom prst="rect">
            <a:avLst/>
          </a:prstGeom>
          <a:ln w="0">
            <a:noFill/>
          </a:ln>
        </p:spPr>
      </p:pic>
      <p:sp>
        <p:nvSpPr>
          <p:cNvPr id="196"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All consumers are interested in cost-savings!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Solutions can vary from simple base level to comprehensive higher level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Dependent on customer’s wants and commitment level </a:t>
            </a:r>
            <a:endParaRPr b="0" lang="en-US" sz="2400" spc="-1" strike="noStrike">
              <a:solidFill>
                <a:srgbClr val="ffffff"/>
              </a:solidFill>
              <a:latin typeface="Bookman Old Style"/>
            </a:endParaRPr>
          </a:p>
        </p:txBody>
      </p:sp>
      <p:pic>
        <p:nvPicPr>
          <p:cNvPr id="197" name="Picture 2" descr=""/>
          <p:cNvPicPr/>
          <p:nvPr/>
        </p:nvPicPr>
        <p:blipFill>
          <a:blip r:embed="rId2"/>
          <a:stretch/>
        </p:blipFill>
        <p:spPr>
          <a:xfrm>
            <a:off x="642960" y="4429080"/>
            <a:ext cx="2143080" cy="2156040"/>
          </a:xfrm>
          <a:prstGeom prst="rect">
            <a:avLst/>
          </a:prstGeom>
          <a:ln w="0">
            <a:noFill/>
          </a:ln>
        </p:spPr>
      </p:pic>
      <p:pic>
        <p:nvPicPr>
          <p:cNvPr id="198" name="Picture 2" descr="C:\Users\Queen Butler\AppData\Local\Microsoft\Windows\Temporary Internet Files\Content.IE5\9RILPGZG\MPj04437190000[1].jpg"/>
          <p:cNvPicPr/>
          <p:nvPr/>
        </p:nvPicPr>
        <p:blipFill>
          <a:blip r:embed="rId3"/>
          <a:stretch/>
        </p:blipFill>
        <p:spPr>
          <a:xfrm>
            <a:off x="5214960" y="4214880"/>
            <a:ext cx="3571920" cy="2379600"/>
          </a:xfrm>
          <a:prstGeom prst="rect">
            <a:avLst/>
          </a:prstGeom>
          <a:ln w="0">
            <a:noFill/>
          </a:ln>
        </p:spPr>
      </p:pic>
      <p:sp>
        <p:nvSpPr>
          <p:cNvPr id="199" name="Slide Number Placeholder 5"/>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2093-541D-4A9A-B5DD-FD8E03781285}"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665280" y="-42840"/>
            <a:ext cx="7813440" cy="1700280"/>
          </a:xfrm>
          <a:prstGeom prst="rect">
            <a:avLst/>
          </a:prstGeom>
          <a:ln w="0">
            <a:noFill/>
          </a:ln>
        </p:spPr>
      </p:pic>
      <p:sp>
        <p:nvSpPr>
          <p:cNvPr id="201"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nsumers with environmental agenda</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Tangible solutions within the home</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nnection to specific programs and community groups </a:t>
            </a:r>
            <a:endParaRPr b="0" lang="en-US" sz="2400" spc="-1" strike="noStrike">
              <a:solidFill>
                <a:srgbClr val="ffffff"/>
              </a:solidFill>
              <a:latin typeface="Bookman Old Style"/>
            </a:endParaRPr>
          </a:p>
        </p:txBody>
      </p:sp>
      <p:pic>
        <p:nvPicPr>
          <p:cNvPr id="202" name="Picture 3" descr="C:\Users\Queen Butler\AppData\Local\Microsoft\Windows\Temporary Internet Files\Content.IE5\J4C0BSYY\MCj04418460000[1].wmf"/>
          <p:cNvPicPr/>
          <p:nvPr/>
        </p:nvPicPr>
        <p:blipFill>
          <a:blip r:embed="rId2"/>
          <a:stretch/>
        </p:blipFill>
        <p:spPr>
          <a:xfrm>
            <a:off x="6215040" y="3857760"/>
            <a:ext cx="2344680" cy="2743200"/>
          </a:xfrm>
          <a:prstGeom prst="rect">
            <a:avLst/>
          </a:prstGeom>
          <a:ln w="0">
            <a:noFill/>
          </a:ln>
        </p:spPr>
      </p:pic>
      <p:sp>
        <p:nvSpPr>
          <p:cNvPr id="203" name="Slide Number Placeholder 4"/>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70C7-CE84-415E-8E8B-238E6D57B31B}"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Title 1" descr=""/>
          <p:cNvPicPr/>
          <p:nvPr/>
        </p:nvPicPr>
        <p:blipFill>
          <a:blip r:embed="rId1"/>
          <a:stretch/>
        </p:blipFill>
        <p:spPr>
          <a:xfrm>
            <a:off x="665280" y="182520"/>
            <a:ext cx="7813440" cy="1970280"/>
          </a:xfrm>
          <a:prstGeom prst="rect">
            <a:avLst/>
          </a:prstGeom>
          <a:ln w="0">
            <a:noFill/>
          </a:ln>
        </p:spPr>
      </p:pic>
      <p:sp>
        <p:nvSpPr>
          <p:cNvPr id="205"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Use popular networking tools for promotion</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EXAMPLE: In what city/neighborhood are we “greening” today?</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EXAMPLE:  Contest to create buzz </a:t>
            </a:r>
            <a:endParaRPr b="0" lang="en-US" sz="2400" spc="-1" strike="noStrike">
              <a:solidFill>
                <a:srgbClr val="ffffff"/>
              </a:solidFill>
              <a:latin typeface="Bookman Old Style"/>
            </a:endParaRPr>
          </a:p>
        </p:txBody>
      </p:sp>
      <p:sp>
        <p:nvSpPr>
          <p:cNvPr id="206"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B776-8219-441A-8288-F35F81792423}"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665280" y="182520"/>
            <a:ext cx="7813440" cy="1474920"/>
          </a:xfrm>
          <a:prstGeom prst="rect">
            <a:avLst/>
          </a:prstGeom>
          <a:ln w="0">
            <a:noFill/>
          </a:ln>
        </p:spPr>
      </p:pic>
      <p:sp>
        <p:nvSpPr>
          <p:cNvPr id="208"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Overcomes barriers to consumer inaction</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Makes changes for customers, and gives them achievable, actionable items</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mprehensive solutions provider</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
        <p:nvSpPr>
          <p:cNvPr id="209"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99C3-3807-4181-9F9B-904A0C5D7DE6}"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pic>
        <p:nvPicPr>
          <p:cNvPr id="210" name="Picture 4" descr="C:\Users\Queen Butler\AppData\Local\Microsoft\Windows\Temporary Internet Files\Content.IE5\9YWQOGOA\MPj04372190000[1].jpg"/>
          <p:cNvPicPr/>
          <p:nvPr/>
        </p:nvPicPr>
        <p:blipFill>
          <a:blip r:embed="rId2"/>
          <a:stretch/>
        </p:blipFill>
        <p:spPr>
          <a:xfrm>
            <a:off x="2643120" y="4191120"/>
            <a:ext cx="3571920" cy="23698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8:07:12Z</dcterms:created>
  <dc:creator>Queen Butler</dc:creator>
  <dc:description/>
  <dc:language>en-US</dc:language>
  <cp:lastModifiedBy>Queen Butler</cp:lastModifiedBy>
  <dcterms:modified xsi:type="dcterms:W3CDTF">2010-01-27T21:12:18Z</dcterms:modified>
  <cp:revision>28</cp:revision>
  <dc:subject/>
  <dc:title>GREEN HOME MAKEOVERS</dc:title>
</cp:coreProperties>
</file>